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896-D123-41D8-87A1-B44AB485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DA6-7CD3-4392-86CF-71651528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A84-3EAE-4BD8-814E-31F52982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C40-3055-409F-B60E-15CEBFD6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C49-46F4-4AD2-9A7F-38732FA5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329-2B22-49E9-8504-514AA99E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785-3E02-426E-9465-37018B77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937-4136-4046-B906-2805A6F1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DE1-1551-4E70-B6B6-C638B8BE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418-7A22-4B1A-96B2-D4416BD6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CB69-C387-454A-9A81-8A2E9845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4FC-C5E9-4770-B0E5-ED5F7AFD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CD33-05DB-4AC6-81E2-2E7AD3129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uscovitmica" descr=""/>
          <p:cNvPicPr/>
          <p:nvPr/>
        </p:nvPicPr>
        <p:blipFill>
          <a:blip r:embed="rId1"/>
          <a:stretch/>
        </p:blipFill>
        <p:spPr>
          <a:xfrm>
            <a:off x="5105520" y="3808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30080" y="22860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838080"/>
            <a:ext cx="447660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fferent chemic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 mica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H,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ot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hlogop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chs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innwal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pido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uscovitemica2" descr=""/>
          <p:cNvPicPr/>
          <p:nvPr/>
        </p:nvPicPr>
        <p:blipFill>
          <a:blip r:embed="rId2"/>
          <a:stretch/>
        </p:blipFill>
        <p:spPr>
          <a:xfrm>
            <a:off x="457200" y="3932280"/>
            <a:ext cx="4495680" cy="2697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4120" y="3276720"/>
            <a:ext cx="359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 provides cleanest and most defect free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 muscovite is of the 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muscovite V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8280" y="1442880"/>
            <a:ext cx="7867440" cy="3972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38160" y="45720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ructure of muscovite 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3280" y="6095880"/>
            <a:ext cx="625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: Daniel J. M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üller, Journal of Structural Biology 119, 172-188 (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87480" y="803160"/>
            <a:ext cx="2587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: Si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: 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4830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are twin variety from Brazil forms yellow five pointed stars and is called "Star Muscovite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ep green variety is called fuchsite and is colored by chromium inpuriti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heat insulator (oven windo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6:22:38Z</dcterms:created>
  <dc:creator>Dionne</dc:creator>
  <dc:description/>
  <dc:language>en-US</dc:language>
  <cp:lastModifiedBy>Dionne</cp:lastModifiedBy>
  <dcterms:modified xsi:type="dcterms:W3CDTF">2003-12-10T16:42:31Z</dcterms:modified>
  <cp:revision>9</cp:revision>
  <dc:subject/>
  <dc:title>PowerPoint Presentation</dc:title>
</cp:coreProperties>
</file>